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meepmeep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9B8-173A-4906-9A82-0A563224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482-D3B0-43AC-A935-75CEC904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D47-1559-431F-A2F6-659ACACA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290-AA2B-4D93-B842-5C435646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C7F-5C6B-4962-AEA7-9AE768F9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357-E3E8-4AC8-9D55-16D4373F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1F1-9331-433C-8DC1-BF02CDD6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715-C3A1-4017-9386-B4AD6C84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8F8-0E39-4B4F-9F4B-156F9D34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6CD-9EDD-4E48-B157-83053DA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DB0-0C18-4C02-926D-C85A4E2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51C-915E-4AEC-B98A-357A75B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2E55-8B4E-471E-A09A-E836E42E2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4880" y="1450800"/>
                <a:ext cx="278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71520" y="2314440"/>
                <a:ext cx="527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92280" y="2255760"/>
                <a:ext cx="1263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05360" y="1455840"/>
                <a:ext cx="2825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881600" y="2306520"/>
                <a:ext cx="579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26200" y="2320920"/>
                <a:ext cx="1474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1880" y="1352520"/>
                <a:ext cx="46641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43320" y="1506600"/>
                <a:ext cx="579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3960" y="2630520"/>
                <a:ext cx="45752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75240" y="2587680"/>
                <a:ext cx="527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8200" y="3479760"/>
                <a:ext cx="3813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22600" y="384012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0280" y="5086440"/>
                <a:ext cx="4665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30520" y="5424480"/>
                <a:ext cx="896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344840" y="5418000"/>
                <a:ext cx="581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6720" y="1398600"/>
          <a:ext cx="8232480" cy="2487240"/>
        </p:xfrm>
        <a:graphic>
          <a:graphicData uri="http://schemas.openxmlformats.org/drawingml/2006/table">
            <a:tbl>
              <a:tblPr/>
              <a:tblGrid>
                <a:gridCol w="2357280"/>
                <a:gridCol w="5875200"/>
              </a:tblGrid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2040" y="169236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5520" y="139392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arts separated by a plus or a minus 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520" y="29624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ns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4640" y="2895480"/>
            <a:ext cx="58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 term without a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9.  Name the coefficient of          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16480" y="674640"/>
                <a:ext cx="1346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94240" y="1436760"/>
                <a:ext cx="527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259884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0. 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757520" y="2482920"/>
                <a:ext cx="1616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389400" y="262080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02000" y="2505240"/>
                <a:ext cx="1301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602320" y="2643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like or un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3000" y="3825720"/>
            <a:ext cx="18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5, 2 – 1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7, 2 – 2 #1-1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04T17:21:47Z</dcterms:modified>
  <cp:revision>53</cp:revision>
  <dc:subject/>
  <dc:title>Slide 1</dc:title>
</cp:coreProperties>
</file>